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826-F952-4FAF-9510-E04ED6CF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834-7F35-4EBB-A003-015F819C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9DA-A70C-481D-AEE9-AC88470F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902-0881-48A5-AF5D-FE87E45F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AA37-2E8E-4464-8BE5-EF5E9F7B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FE7E-5B18-445C-A2FC-893C3380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6DEB-D02E-43D4-82EA-C63DB95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B19-8F1A-4AED-AC3F-CBBA4DC3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9A20-5828-43D3-A184-3C198A09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7898-0DF8-4B1E-9E57-4A6AE529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D3B8-55D4-4FB6-A41C-35AA219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ACC-B120-4E4F-9D72-8CA11751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7D91-B83A-40E6-A579-0D18B6C1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9527-A212-4508-AB10-CC59FD24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42E8-12A4-4B42-AE74-E89BC0A2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4DF0-D2C2-4088-8798-901F0C26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1D86-0FA1-4FEB-8F78-D099B2F7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2C0-9205-4263-9883-B2B5D3D4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304-75A7-4D4E-8127-03597DD1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28E-0018-4998-A88E-02CFE32D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31C-BDCF-4388-8F93-07199834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0CF-DCE7-4107-BB91-5142AECA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8D2-D55F-48EE-8B06-67D850AD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4EF-8286-4833-B48C-DE0D50A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467E-90B5-4D24-AEBA-E33F3E6C651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D031-4638-4172-889B-AFC8297B0CB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of District Property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y Third Par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ileen 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eputy Directo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ess Permits/Other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oyce Izum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l: 213.241.6126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oyce.izumi@lausd.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naged by: 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 types of License/Lease Agree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ict as Landlord/Licens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istrict as Tenant/Licens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as Landlord/Licenso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for use of District property by third part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hort term - use for 30 days or le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arking for birthday parties, dance recitals, theatrical performances, booster club or PTA fund raiser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ong term basis  - use for over 30 days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eyond the Bell programs, church services, sports train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actions fall into two categor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gular rental ra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ntal rates charged pursuant to a rental rate schedule approved by the Boar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st incurred” reques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aiver of regular rental fees (and often all costs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enefit” to the schoo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ppropriate custodial hours being allocat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ct as Landlord/Licensor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aren Tandoc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l:213.241.613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aren.tandoc@lausd.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cense/Lea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as Tenant/Licens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for the District to enter into agreements to lease property owned by third partie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lassroom space for adult education or other District progra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asing &amp; Asset Management maintains the lease docu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ct as Tenant/Licensee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enry McFarl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l: 213.241.612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enry.mcfarland@lausd.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ivic Center Perm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 Civic Center Permit Offi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lifornia Education Code and the LAUSD Board of Education require that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ach and every public school facility be made available as a civic center to members of the community and non-profit community organization for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upervised recreational activit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eetings and public discussion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uring designated hours when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gular school activities are not disrupt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vic Center Permits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athy Friedma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l: 818.587.4347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athryn.friedman@lausd.ne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831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Eileen Ma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puty Direct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US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33 South Beaudry Ave, 23rd Flo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Los Angeles, CA 90017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92929"/>
                </a:solidFill>
                <a:latin typeface="Arial"/>
              </a:rPr>
              <a:t>Tel:  213.241.6124    Fax:  213.241.678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ileen.ma@lausd.ne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n a monthly basis, District receives several hundred requests for the use 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f its facilities (school sites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sing &amp; Asset Management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mary Types of Uses of District Property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lm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int Use Agre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ccess Permi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cense Agreemen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ivic Center Permi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l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</a:t>
            </a:r>
            <a:br>
              <a:rPr sz="2800"/>
            </a:b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lmLA – District’s film coordinator vendo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ports to Leasing &amp; Asset Managem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andles all requests for filming or filming related activity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rk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ater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hotograp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ll requests must be handled through Film LA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lming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act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lm LA, Inc.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201 West 5th Street, T-800</a:t>
            </a:r>
            <a:br>
              <a:rPr sz="2400"/>
            </a:b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Los Angeles, CA  90017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Contact:</a:t>
            </a:r>
            <a:br>
              <a:rPr sz="2400"/>
            </a:br>
            <a:r>
              <a:rPr b="0" lang="es-ES_tradnl" sz="2400" spc="-1" strike="noStrike">
                <a:solidFill>
                  <a:srgbClr val="292929"/>
                </a:solidFill>
                <a:latin typeface="Arial"/>
              </a:rPr>
              <a:t>Patricia Edgar   tel: 213.977.8618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tricia_edgar@filmlainc.co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strict Contact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yce Izumi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tel: 213.241.612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oyce.izumi@lausd.n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-managed by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asing &amp; Asset Managem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chool Planning &amp; Design Depart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Joint use i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use of a school after hours by a non-District partner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overnmental agenc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ports organization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rivate ent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actors to be evaluated in a proposed joint us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ill the partner be contributing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pital improvements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grammatic contribution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ill use be cost neutral to the District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t Use Agreement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istrict Contac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Ana Lass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Tel: 213.241.589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92929"/>
                </a:solidFill>
                <a:latin typeface="Arial"/>
              </a:rPr>
              <a:t>ana.lasso@lausd.n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ess Permits/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d by: Leasing &amp; Asset Manage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s by third parties or by the Distric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arious real estate transactions requiring an agreement to document the transaction and/or monitor compliance.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neighbor requests access onto the school to trim his trees or to fix an adjacent wal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chool requires access onto a neighbor’s property for school construc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6:49:34Z</dcterms:created>
  <dc:creator>joyce izumi</dc:creator>
  <dc:description/>
  <dc:language>en-US</dc:language>
  <cp:lastModifiedBy>joyce izumi</cp:lastModifiedBy>
  <dcterms:modified xsi:type="dcterms:W3CDTF">2009-04-16T19:37:42Z</dcterms:modified>
  <cp:revision>17</cp:revision>
  <dc:subject/>
  <dc:title>Use of District Property by Third Parties</dc:title>
</cp:coreProperties>
</file>